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F92C-ACD8-44B0-B23B-83B222E66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04EA-E420-43C6-BBA1-0D37C5E77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09AE-78F2-4F81-8B8D-9895B4C9A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4521-0809-4B84-9AC3-320F5D1F1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020DB-65F9-4AFC-A937-85E62A7DE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A9B73-BE3A-4A70-9E02-DBECA1C1F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3A6AA-6EAF-4C47-85D1-0D3CE6B69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F6552-06C1-4B55-81CB-964C16E60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A1DF9-45D0-419C-8CAC-289540591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DAF9D-8639-4C93-B42A-E2642EA31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15142-344F-44EA-ABB4-3331B7A09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B4DE-00BA-425B-AD11-B7BDAC848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4EDAE-BBE1-4D15-B9DF-60A6141AA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141F9-9956-4012-A397-F9C02D3DE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BD67F-2119-4512-AE1C-CB19703BF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4C8B4-DB54-4228-82AF-D7B6CC8B6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8FCD7-37EA-434A-AFA2-EA5FD9520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4BA6-D76C-412B-990E-920B226D1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A957-B199-4817-8205-2E508E45B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B812-9682-4A3A-93CC-10EA299DC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5D8E-46BC-4D3D-B8D6-F776CC5D7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FA0E-FF4A-4E2B-9AC9-37CE94FBC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3DC5-7285-4665-AD23-4CFFB204F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FA81-943A-4CA5-B4DB-8564880B7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90600"/>
            <a:chOff x="0" y="0"/>
            <a:chExt cx="8686800" cy="48906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21640"/>
              <a:ext cx="8305920" cy="182520"/>
              <a:chOff x="380880" y="142164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2164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796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69040"/>
            <a:ext cx="1981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6544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EB251-55A8-4B94-8B80-3937F7913E0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9096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58720"/>
            <a:chOff x="0" y="0"/>
            <a:chExt cx="8763120" cy="595872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14320"/>
              <a:ext cx="8763120" cy="2444400"/>
              <a:chOff x="0" y="3514320"/>
              <a:chExt cx="8763120" cy="244440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14320"/>
                <a:ext cx="77724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43280"/>
                <a:ext cx="764856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895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4600"/>
              <a:ext cx="8077320" cy="304920"/>
              <a:chOff x="635040" y="534600"/>
              <a:chExt cx="8077320" cy="30492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4600"/>
                <a:ext cx="243864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688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69040"/>
            <a:ext cx="1904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65440"/>
            <a:ext cx="2895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EEF92-2DDB-440A-8EA4-13BBE176317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Object 4"/>
          <p:cNvGraphicFramePr/>
          <p:nvPr/>
        </p:nvGraphicFramePr>
        <p:xfrm>
          <a:off x="831960" y="1577880"/>
          <a:ext cx="5105160" cy="495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1960" y="1577880"/>
                    <a:ext cx="5105160" cy="495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86920" y="343080"/>
            <a:ext cx="7417080" cy="1008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400" spc="-1" strike="noStrike">
                <a:solidFill>
                  <a:srgbClr val="330033"/>
                </a:solidFill>
                <a:latin typeface="Times New Roman"/>
              </a:rPr>
              <a:t>«СТРУКТУРА МУНИЦИПАЛЬНОГО ВНУТРЕННЕГО ДОЛГА НА 2019 ГОД И ПЛАНОВЫЙ ПЕРИОД 2020-2021 ГГ. (млн.руб.)»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6156360" y="1638360"/>
          <a:ext cx="2232000" cy="33796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заимствований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гарантии Дальнереченского городского о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19-07-30T01:03:46Z</dcterms:modified>
  <cp:revision>46</cp:revision>
  <dc:subject/>
  <dc:title>Структура собственных доходов на 2016 год бюджета Дальнереченского городского округа</dc:title>
</cp:coreProperties>
</file>